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EA1-AEB4-46A5-B31F-53C3C2F3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8B3-AF99-4634-9FC2-8D3BC65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D3D-09F0-4E59-804E-26AF2F42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65F-269B-4BF4-8CA6-8DCF469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A8D-4ABE-49CC-B624-3BB2384F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8622-8BAB-4322-9C34-81B7327A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F60-AFE2-4CC7-A962-27F2680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334-6C2C-4370-990C-B5344AB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F5A-B9E8-454E-943C-D59DE3F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A3E3-5D1F-426F-B26B-F46DD49A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01D-BCD0-412F-AD1F-444E4CA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A8A-2E39-47EC-AED9-627101FE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D73E-37A2-4FE4-9A3A-4A68D96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64C6-C571-43ED-9EA3-6F0A309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2536-D98D-414D-A7B3-A9EA5C24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6311-C1ED-4C90-84F2-04E16FB4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5BDF-6250-43FC-98EA-AD62E72D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E32-0690-4DD8-8410-DC979AD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0CF-EF68-4656-8CD7-9540E586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375-5440-461B-80F5-FF295EC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0D3-4F04-4B0F-8D3E-5A898109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73A-4891-416C-BAB5-E6EA605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08A-3650-42C2-9879-F0E72B8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1E5-7B95-4E20-90F4-A79ECDC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8DC-DE79-4D85-A33F-0536E65A6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2870-9F28-4B35-9F5B-CC3D74E7C3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6108840" y="5137200"/>
            <a:ext cx="237960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pic>
        <p:nvPicPr>
          <p:cNvPr id="87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Measure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pic>
        <p:nvPicPr>
          <p:cNvPr id="89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Cooper Black"/>
              </a:rPr>
              <a:t>Measur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best forms of measurement in a biology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54320" y="185256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26360" y="1712880"/>
            <a:ext cx="1699920" cy="194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87880" y="4114800"/>
            <a:ext cx="1425240" cy="178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69120" y="424512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84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638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s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54320" y="185256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87880" y="4114800"/>
            <a:ext cx="1425240" cy="178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26360" y="1712880"/>
            <a:ext cx="1699920" cy="194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369120" y="42451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3:49:03Z</dcterms:created>
  <dc:creator>PritchaJ</dc:creator>
  <dc:description/>
  <dc:language>en-US</dc:language>
  <cp:lastModifiedBy>PritchaJ</cp:lastModifiedBy>
  <dcterms:modified xsi:type="dcterms:W3CDTF">2011-05-24T15:27:48Z</dcterms:modified>
  <cp:revision>2</cp:revision>
  <dc:subject/>
  <dc:title>Slide 1</dc:title>
</cp:coreProperties>
</file>